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D5006F-F48A-4DD8-B378-6D747F55D2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0504A8-DECD-4F95-91AF-6B2CA23236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97A86B-80CB-4A53-8340-AC21CAE7AE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F120B6-6C82-4824-B86B-08B0F9482D1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535B16-C72F-490B-897E-53D63DFDF53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D9BA25-9935-41D1-A4BA-EF56034DEF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0381A-3A33-4409-B257-0534571527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F855A2-957C-46E2-AA9F-41F0F8D226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7B85DB-241D-4991-A35F-DF648D55BC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F088C8-0987-4493-8491-240DC9C92D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6104BE-3DB8-4383-B74F-8D76888FF5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87127-9494-4D77-A2AF-F8BC694640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22824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08 Vista Higher Learning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7.2-</a:t>
            </a:r>
            <a:fld id="{2812C46F-5F74-4EE0-AC39-B05CB6C7CD58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387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682200" y="1622520"/>
            <a:ext cx="7839000" cy="409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1714680">
              <a:spcBef>
                <a:spcPts val="1049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 other compound tenses you have learned—the present perfect, the past perfect, and the future perfect—the conditional perfect 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l condicional perfect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is formed with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abe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[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ast particip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36560" y="1581120"/>
            <a:ext cx="1676520" cy="5637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57200" y="3933720"/>
            <a:ext cx="8229600" cy="2219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7D283-E892-47A5-A805-07EA12D9B8C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57200" y="1684440"/>
            <a:ext cx="8229600" cy="3186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EDC825-1F4E-41A0-950D-E7057406522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nditional perfect is used to express an action that would have occurred, but didn’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" y="2657520"/>
            <a:ext cx="8229600" cy="127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9C3CD0-C8A5-40B0-8165-3DA927AA4CF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936720" y="2157480"/>
          <a:ext cx="7269120" cy="4167000"/>
        </p:xfrm>
        <a:graphic>
          <a:graphicData uri="http://schemas.openxmlformats.org/drawingml/2006/table">
            <a:tbl>
              <a:tblPr/>
              <a:tblGrid>
                <a:gridCol w="7269120"/>
              </a:tblGrid>
              <a:tr h="1189080">
                <a:tc>
                  <a:txBody>
                    <a:bodyPr lIns="182880" rIns="182880" tIns="182880" bIns="18288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ca las formas apropiadas del condicional perfecto de </a:t>
                      </a:r>
                      <a:br>
                        <a:rPr sz="2000"/>
                      </a:b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s verbo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2880" marR="18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8e1fa"/>
                    </a:solidFill>
                  </a:tcPr>
                </a:tc>
              </a:tr>
              <a:tr h="3256560">
                <a:tc>
                  <a:txBody>
                    <a:bodyPr lIns="182880" rIns="182880" tIns="182880" bIns="182880" anchor="t">
                      <a:noAutofit/>
                    </a:bodyPr>
                    <a:p>
                      <a:pPr marL="457200" indent="-457200">
                        <a:spcBef>
                          <a:spcPts val="400"/>
                        </a:spcBef>
                        <a:buClr>
                          <a:srgbClr val="000000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sotros ____________________ (hacer) todos los quehaceres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spcBef>
                          <a:spcPts val="400"/>
                        </a:spcBef>
                        <a:buClr>
                          <a:srgbClr val="000000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ú ____________________ (apreciar) mi poesía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spcBef>
                          <a:spcPts val="400"/>
                        </a:spcBef>
                        <a:buClr>
                          <a:srgbClr val="000000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los ____________________ (pintar) un mural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spcBef>
                          <a:spcPts val="400"/>
                        </a:spcBef>
                        <a:buClr>
                          <a:srgbClr val="000000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ted ____________________ (tocar) el piano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spcBef>
                          <a:spcPts val="400"/>
                        </a:spcBef>
                        <a:buClr>
                          <a:srgbClr val="000000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las ____________________ (poner) la mesa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spcBef>
                          <a:spcPts val="400"/>
                        </a:spcBef>
                        <a:buClr>
                          <a:srgbClr val="000000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ú y yo ____________________ (resolver) los problemas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spcBef>
                          <a:spcPts val="400"/>
                        </a:spcBef>
                        <a:buClr>
                          <a:srgbClr val="000000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lvia y Alberto ____________________ (esculpir) una estatua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spcBef>
                          <a:spcPts val="400"/>
                        </a:spcBef>
                        <a:buClr>
                          <a:srgbClr val="000000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 ____________________ (presentar) el informe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spcBef>
                          <a:spcPts val="400"/>
                        </a:spcBef>
                        <a:buClr>
                          <a:srgbClr val="000000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tedes ____________________ (vivir) en el campo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spcBef>
                          <a:spcPts val="400"/>
                        </a:spcBef>
                        <a:buClr>
                          <a:srgbClr val="000000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ú ____________________ (abrir) la puerta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2880" marR="18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1fa"/>
                    </a:solidFill>
                  </a:tcPr>
                </a:tc>
              </a:tr>
            </a:tbl>
          </a:graphicData>
        </a:graphic>
      </p:graphicFrame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09480" y="1447920"/>
            <a:ext cx="2438640" cy="6271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598120" y="3208320"/>
            <a:ext cx="200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80ff"/>
                </a:solidFill>
                <a:latin typeface="Comic Sans MS"/>
              </a:rPr>
              <a:t>habríamos hech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528B93-5E25-4CB0-9BD5-F4D6C52E54A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6T13:56:05Z</dcterms:created>
  <dc:creator>Jason Miranda</dc:creator>
  <dc:description/>
  <dc:language>en-US</dc:language>
  <cp:lastModifiedBy>awagner</cp:lastModifiedBy>
  <dcterms:modified xsi:type="dcterms:W3CDTF">2007-03-29T19:28:03Z</dcterms:modified>
  <cp:revision>67</cp:revision>
  <dc:subject/>
  <dc:title>PowerPoint Presentation</dc:title>
</cp:coreProperties>
</file>